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AA8-4A58-472F-B09C-AF102EE6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F42-3B9D-4657-BC93-C551987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511-BA12-4164-BC11-74E829CC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550-9F11-4F09-8CFF-E8F80FF9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5F71-DE7F-4E51-A89A-6E3D451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E7D-255D-4409-9A0D-6F69D0A3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6CE1-F1AF-41E0-AE51-93B05AE6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3A3-4014-455C-BE1C-21F771E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940C-D5B1-41B5-8A0F-FFDCCFD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291-CB8D-4450-A68A-F51AC14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F895-9FAE-4840-B06C-F0B2C4C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EFF-0E88-4A19-9557-4B0C1B9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4DC-321E-427D-AC06-2EE6495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450-1FA2-482E-8DAF-6269CDA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9AF4-D430-41E1-BA05-7500D58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439-4163-4199-88CC-CFC1495E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F72-1AD6-4559-A81A-D2DA902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4DB-1B5D-4A44-BDED-DC8D539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905-4FE4-4418-81D7-CF11C238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AED-3818-46B4-94B3-87E46D74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A2E-94F3-47F9-90F2-99D48877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CE3-BD3D-4292-8BDA-18D7D5C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62-5A4D-47C2-8FAC-C200786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378-D26C-463D-A3B4-201BB1A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63C6-8B70-4CA3-A47A-4C5601C50F96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A39-499C-4F75-BE4F-3FA2D535DE20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Дегенеративне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оц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Тања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Лукови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94880" y="794880"/>
            <a:ext cx="785844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7693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еур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ондроц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аболич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атрик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ч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теоглик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укополисахарид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јалуронс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теоглика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уж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пор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мпреси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ормациј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лу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бија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ећ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фикас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TOFIZIOLOGIJ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46083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Функција</a:t>
            </a:r>
            <a:r>
              <a:rPr b="1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хијалине</a:t>
            </a:r>
            <a:r>
              <a:rPr b="1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хрскавице</a:t>
            </a:r>
            <a:r>
              <a:rPr b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васкуларн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неуралн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лимфатич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суфицијенц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еактив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иперплаз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бхондралних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стеобласт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етаплаз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иновијалног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Циклус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мпресиј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екомпрес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770280" cy="4660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871720" y="31701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476360" y="96984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42920" y="907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042920" y="7650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14240" y="260280"/>
            <a:ext cx="794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3366"/>
                </a:solidFill>
                <a:latin typeface="Arial"/>
              </a:rPr>
              <a:t>Патофизиологија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3366"/>
                </a:solidFill>
                <a:latin typeface="Arial"/>
              </a:rPr>
              <a:t>остеоартроз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станк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орављ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ал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ов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ла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скавиц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ов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об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др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астуч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уг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ављ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тер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астич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уб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брил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сур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роз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тана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ровање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иц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алож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словљ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ицијал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в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утарњ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гр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лобађ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изозомал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бурниз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вич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теоф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ис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268360" y="98100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PATOGENEZ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99920" y="2349360"/>
            <a:ext cx="45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Biohemijski i metabolički proce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176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508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84360" y="2852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Narušena  ravnotež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4427640" y="5410080"/>
            <a:ext cx="2895480" cy="1447920"/>
          </a:xfrm>
          <a:prstGeom prst="irregularSeal2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3132000" y="3213000"/>
            <a:ext cx="60984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140360" y="3141720"/>
            <a:ext cx="533160" cy="914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10800000">
            <a:off x="2124000" y="3715920"/>
            <a:ext cx="1447920" cy="685800"/>
          </a:xfrm>
          <a:prstGeom prst="pi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 rot="10800000">
            <a:off x="4716000" y="3715920"/>
            <a:ext cx="1600200" cy="68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2124000" y="3716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Arial"/>
              </a:rPr>
              <a:t>sintetičk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4572000" y="364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k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bolič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24000" y="537372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L-1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G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E2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3276720" y="4869000"/>
            <a:ext cx="1873080" cy="549000"/>
          </a:xfrm>
          <a:custGeom>
            <a:avLst/>
            <a:gdLst>
              <a:gd name="textAreaLeft" fmla="*/ 356400 w 1873080"/>
              <a:gd name="textAreaRight" fmla="*/ 1213560 w 18730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7" hR="21600" stAng="10800000" swAng="5400000"/>
                <a:lnTo>
                  <a:pt x="9881" y="0"/>
                </a:lnTo>
                <a:arcTo wR="8227" hR="21600" stAng="-5400000" swAng="2827746"/>
                <a:lnTo>
                  <a:pt x="21130" y="14400"/>
                </a:lnTo>
                <a:lnTo>
                  <a:pt x="17280" y="21600"/>
                </a:lnTo>
                <a:lnTo>
                  <a:pt x="12490" y="14400"/>
                </a:lnTo>
                <a:lnTo>
                  <a:pt x="15983" y="14400"/>
                </a:lnTo>
                <a:arcTo wR="8227" hR="21600" stAng="-2572254" swAng="-2695520"/>
                <a:lnTo>
                  <a:pt x="9054" y="109"/>
                </a:lnTo>
                <a:arcTo wR="8227" hR="21600" stAng="-5532226" swAng="-5267774"/>
                <a:close/>
              </a:path>
              <a:path fill="darkenLess" w="21600" h="21600">
                <a:moveTo>
                  <a:pt x="0" y="21600"/>
                </a:moveTo>
                <a:arcTo wR="8227" hR="21600" stAng="10800000" swAng="5400000"/>
                <a:lnTo>
                  <a:pt x="8227" y="0"/>
                </a:lnTo>
                <a:arcTo wR="8227" hR="21600" stAng="-5400000" swAng="132226"/>
                <a:lnTo>
                  <a:pt x="9054" y="109"/>
                </a:lnTo>
                <a:arcTo wR="8227" hR="21600" stAng="-5532226" swAng="-5267774"/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880360" y="58784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ndroc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2360" y="72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togenez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0" r="0" b="-915"/>
          <a:stretch/>
        </p:blipFill>
        <p:spPr>
          <a:xfrm>
            <a:off x="539640" y="1413000"/>
            <a:ext cx="4013280" cy="475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798720" cy="489564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8960" y="340200"/>
            <a:ext cx="7815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тадијум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разлагањ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хрскавиц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драв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омљивост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лагених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лака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рој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ремећен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9" descr="Copy of Picture 001"/>
          <p:cNvPicPr/>
          <p:nvPr/>
        </p:nvPicPr>
        <p:blipFill>
          <a:blip r:embed="rId1"/>
          <a:stretch/>
        </p:blipFill>
        <p:spPr>
          <a:xfrm>
            <a:off x="3203640" y="170028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opy (2) of Picture 001"/>
          <p:cNvPicPr/>
          <p:nvPr/>
        </p:nvPicPr>
        <p:blipFill>
          <a:blip r:embed="rId2"/>
          <a:stretch/>
        </p:blipFill>
        <p:spPr>
          <a:xfrm>
            <a:off x="5580000" y="170028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Picture 001"/>
          <p:cNvPicPr/>
          <p:nvPr/>
        </p:nvPicPr>
        <p:blipFill>
          <a:blip r:embed="rId3"/>
          <a:stretch/>
        </p:blipFill>
        <p:spPr>
          <a:xfrm>
            <a:off x="755640" y="1700280"/>
            <a:ext cx="2340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линич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ли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утар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мо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а слаб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орм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к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актив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ти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патор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ет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484360" y="162000"/>
            <a:ext cx="4121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979640" y="0"/>
            <a:ext cx="54864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ОНАРТРОЗ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1413000"/>
            <a:ext cx="45720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линичк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лик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јективн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ла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абораторијск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лаз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иограф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ЦТ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еђ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ЕМ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плер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рвних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дов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6300720" y="2565360"/>
            <a:ext cx="2438640" cy="2087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466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д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тиологија,патогене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линичка сл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јагноза,ДД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Диференцијална дијагн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 у зглобу се смањује мировањем,а појачава са покре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абораторија је у физиолошким границама (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E,CRP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д запаљењског реуматизма је обрну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1308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913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6666"/>
                </a:solidFill>
                <a:latin typeface="Arial"/>
              </a:rPr>
              <a:t>ЛЕЧЕЊЕ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6666"/>
                </a:solidFill>
                <a:latin typeface="Arial"/>
              </a:rPr>
              <a:t>ГОНАРТРОЗ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000" y="1571400"/>
            <a:ext cx="769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brzim simptomatsk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nalgetic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NSAI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Antiartrotični lekovi sa simptomatskim sporim dejstvom (DMOAD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= 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SYSADO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Glukozam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Diacere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Hondroit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  S-Adenosil metion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Hijaluronska kiselina               Rumal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GK                                          Artep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strukturno-modulatorn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proinflamatornih citoki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enz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azot oks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Stimulacija anaboličkih procesa u hrskav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Reparacija površine hrskavice, celularna i th. citokin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DIP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зглобов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(Noduli Heberden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диопатс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лед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менопаузал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дебљ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а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тал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ланг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1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ст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рвенил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њ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ст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лагод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лен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(gonarthrosi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ели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дини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врш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сећ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еморотибиј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елофеморал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ремено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чешћ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троф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о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,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алотм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е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еллгренов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на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гон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зира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ад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ст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квалификација,шта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к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ектр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м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др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ото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ератив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теотом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оплас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генератив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ољ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азличит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тиолог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олошк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ме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том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дно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ункц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пропор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мед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сив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Ет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P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паљењс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цес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руш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скулариз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аум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балан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краћ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шта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умор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линич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ли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по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ри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енделербур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ам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лексио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троф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т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луте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гранич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сеудоабрев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Лечење 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 ТТ,штап у супротној руц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а терапија,блокаде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ектротерапија,термотерапија,фототерапија, УЗ, магнетотерапија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еративно лечење: остеотомије,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TC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Organization Chart 4"/>
          <p:cNvGrpSpPr/>
          <p:nvPr/>
        </p:nvGrpSpPr>
        <p:grpSpPr>
          <a:xfrm>
            <a:off x="179280" y="971280"/>
            <a:ext cx="8762760" cy="3940200"/>
            <a:chOff x="179280" y="971280"/>
            <a:chExt cx="8762760" cy="3940200"/>
          </a:xfrm>
        </p:grpSpPr>
        <p:cxnSp>
          <p:nvCxnSpPr>
            <p:cNvPr id="99" name="_s1028"/>
            <p:cNvCxnSpPr>
              <a:stCxn id="100" idx="0"/>
              <a:endCxn id="101" idx="5"/>
            </p:cNvCxnSpPr>
            <p:nvPr/>
          </p:nvCxnSpPr>
          <p:spPr>
            <a:xfrm flipV="1" rot="16200000">
              <a:off x="6189120" y="685440"/>
              <a:ext cx="676440" cy="39333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4"/>
            </p:cNvCxnSpPr>
            <p:nvPr/>
          </p:nvCxnSpPr>
          <p:spPr>
            <a:xfrm flipV="1" rot="16200000">
              <a:off x="5517000" y="1357560"/>
              <a:ext cx="676440" cy="25894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4" name="_s1030"/>
            <p:cNvCxnSpPr>
              <a:stCxn id="105" idx="0"/>
              <a:endCxn id="101" idx="3"/>
            </p:cNvCxnSpPr>
            <p:nvPr/>
          </p:nvCxnSpPr>
          <p:spPr>
            <a:xfrm flipV="1" rot="16200000">
              <a:off x="4728240" y="2146320"/>
              <a:ext cx="676440" cy="10119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3951720" y="2380680"/>
              <a:ext cx="676440" cy="54324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8" name="_s1032"/>
            <p:cNvCxnSpPr>
              <a:stCxn id="109" idx="0"/>
              <a:endCxn id="101" idx="1"/>
            </p:cNvCxnSpPr>
            <p:nvPr/>
          </p:nvCxnSpPr>
          <p:spPr>
            <a:xfrm flipH="1" flipV="1" rot="5400000">
              <a:off x="3152880" y="1581840"/>
              <a:ext cx="676440" cy="21412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10" name="_s1033"/>
            <p:cNvCxnSpPr>
              <a:stCxn id="111" idx="0"/>
              <a:endCxn id="101" idx="0"/>
            </p:cNvCxnSpPr>
            <p:nvPr/>
          </p:nvCxnSpPr>
          <p:spPr>
            <a:xfrm flipH="1" flipV="1" rot="5400000">
              <a:off x="2373120" y="802440"/>
              <a:ext cx="676440" cy="369972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01" name="_s1034"/>
            <p:cNvSpPr/>
            <p:nvPr/>
          </p:nvSpPr>
          <p:spPr>
            <a:xfrm>
              <a:off x="3638880" y="971280"/>
              <a:ext cx="1843560" cy="1343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66"/>
                  </a:solidFill>
                  <a:latin typeface="Arial"/>
                </a:rPr>
                <a:t>REUMATI</a:t>
              </a: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ČNE 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BOLESTI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_s1035"/>
            <p:cNvSpPr/>
            <p:nvPr/>
          </p:nvSpPr>
          <p:spPr>
            <a:xfrm>
              <a:off x="179280" y="2990520"/>
              <a:ext cx="13629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Zapalje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692000" y="2990520"/>
              <a:ext cx="1457640" cy="1856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ff0000"/>
                  </a:solidFill>
                  <a:latin typeface="Arial"/>
                </a:rPr>
                <a:t>Degenerativn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3299400" y="2990520"/>
              <a:ext cx="14385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Vanzglobn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038"/>
            <p:cNvSpPr/>
            <p:nvPr/>
          </p:nvSpPr>
          <p:spPr>
            <a:xfrm>
              <a:off x="4888080" y="2990520"/>
              <a:ext cx="1365840" cy="1827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Metabo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ič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6404040" y="2990520"/>
              <a:ext cx="1490400" cy="19209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U toku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bolest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drugih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>
              <a:off x="8044560" y="2990520"/>
              <a:ext cx="897480" cy="1351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Ređ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poremećaj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okomot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Rhisartr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CMCP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о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лабље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и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G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гле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Rt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h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рал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окал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к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мис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59292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стеоартроза</a:t>
            </a:r>
            <a:r>
              <a:rPr b="1" lang="sr-Latn-C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је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распрострањен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озбиљн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боле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јчешћ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зрок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оловањ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валидских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енз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30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већање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живот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б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п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ст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50-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ишњак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80%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65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74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90%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гађ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ла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портист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љу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ешк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слов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љу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јвиш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ног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рово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едеће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ложај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99280" y="405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ФИНИЦИЈ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50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39640" y="2565360"/>
            <a:ext cx="81536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ртроз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егенератив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љењ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чињ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ној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рскавиц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ахватај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екстремитет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ичм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тањ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63%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апаљењски 16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4643280" y="3933720"/>
            <a:ext cx="3240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одел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ар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енуи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словљ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рмал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дра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нормал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кундар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пољашњ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ктор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рм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дра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нормал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стапенк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Локализац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DIP (Noduli Heberden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а (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on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cox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CMCP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rhis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чме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у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spondyl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96320" y="590040"/>
            <a:ext cx="7842600" cy="5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Узроци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остеоартрозе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836280"/>
            <a:ext cx="769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енет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диспози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тер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ом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кротраум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па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греш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ављ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П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ру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лгу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комер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ж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нуд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ло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ар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схр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2-04-23T06:57:11Z</dcterms:modified>
  <cp:revision>142</cp:revision>
  <dc:subject/>
  <dc:title>PowerPoint Presentation</dc:title>
</cp:coreProperties>
</file>